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371-9AF2-4B27-939A-6DD5A2F4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9D9-D0F9-4941-A726-B6FFA5C9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F9E-C45B-4EF3-933A-91D18C24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349-DF7B-47DA-A16C-8DB97EA2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331-1E2C-4512-9714-FAF60BEE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081-3A06-4E22-8F5B-66C17F4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1DC-0405-4CC0-B143-8D0AEFB2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6CD-4663-4B17-8D85-0A6BE62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A35-8932-49D2-8FE9-95E3DBD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7C3-A3EB-4964-9F13-E53E222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1B2-EFC8-49CC-BB5B-CC681E4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187-C467-4672-90F5-0D4DDAA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FB62-B33F-461E-90E7-7B43DDC92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7 de febr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Propósito # 53: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ómo practicamos para la prueba de maña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 los siguientes verbos en el presente progres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arc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emb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e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come 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lam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cla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la forma correcta del presente progr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lumnos ______________ a la profesora. (escuch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ú ____________ a conjugar. (apre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_________ español. (estud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éctor ______________ a Madrid. (par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___ para el equipaje. (recla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pasajeros _____________ el avión. (embar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sistente _____________ al pasajero. (ayu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_____________ ahora? (ha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__ un equipaje de mano pequeño. (tra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 familia __________________ al aeropuerto para ir a casa. (ven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¾ on FRIDA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 Progre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TEXTBOOK pgs. 87-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3:55:28Z</dcterms:created>
  <dc:creator>Helen Zumaeta</dc:creator>
  <dc:description/>
  <dc:language>en-US</dc:language>
  <cp:lastModifiedBy>Helen Zumaeta</cp:lastModifiedBy>
  <dcterms:modified xsi:type="dcterms:W3CDTF">2013-02-06T20:22:46Z</dcterms:modified>
  <cp:revision>11</cp:revision>
  <dc:subject/>
  <dc:title>Me llamo _________     Clase 7 IM La fecha es el 28 de octubre del 2011</dc:title>
</cp:coreProperties>
</file>